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6007-C777-44E3-9BF8-BFE747655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1B49-17CC-4AD4-AD88-EBE11AF6E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9F3D-6214-44F4-83F6-B9DDB7A4E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C1ED-0B7A-4984-8DDA-5FC36CBA3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E002-F51C-4CCD-9702-2D7DCD4D8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45FA-7284-4AC8-A782-3D70598C2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80C5-BA31-402F-9524-DBA2EC944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7C66-332E-430F-88F6-5D8897030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3839-E229-435B-B6C5-C96DE41B0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9C87-9654-4B5E-B08A-268CD5811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13BE-179E-45B9-8160-443306D59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9FE5-DC6C-4190-8B29-A2CD25460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BE2F2-3F10-4250-8B7C-3704002C4A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56000" y="4724280"/>
            <a:ext cx="5256000" cy="792360"/>
          </a:xfrm>
          <a:prstGeom prst="cloudCallout">
            <a:avLst>
              <a:gd name="adj1" fmla="val -20370"/>
              <a:gd name="adj2" fmla="val 664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03280" y="189000"/>
            <a:ext cx="6264360" cy="934920"/>
          </a:xfrm>
          <a:prstGeom prst="flowChartTerminator">
            <a:avLst/>
          </a:prstGeom>
          <a:gradFill rotWithShape="0">
            <a:gsLst>
              <a:gs pos="0">
                <a:srgbClr val="fc9fcb"/>
              </a:gs>
              <a:gs pos="100000">
                <a:srgbClr val="f8b049"/>
              </a:gs>
            </a:gsLst>
            <a:lin ang="5400000"/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Arial"/>
              </a:rPr>
              <a:t>زيادة بعض الأ حرف في الكلمة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7120"/>
            <a:ext cx="8291520" cy="5789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5000"/>
          </a:bodyPr>
          <a:p>
            <a:pPr marL="32580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DecoType Thuluth"/>
              </a:rPr>
              <a:t>الأمثل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/ استأذن </a:t>
            </a: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عمُرو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بن العاص الخليفة عمر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/ فدخل المسلمون بقيادة </a:t>
            </a: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عُمٍَرو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بن العاص مص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/ قد أحب المصريون القائد </a:t>
            </a: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عُمرًا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مناقشة الأمثلة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لاحظ أن كلمة (</a:t>
            </a: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عمرو )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جاءت مرفوعة في الجملة الأولى وجاءت مجرورة في الجملة الثانية وجاءت منصوبة في الجملة الثالث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لاحــــــــظ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أن كلمة (</a:t>
            </a: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عمرو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) لحقتها واو في حالتي الرفع  والجر ولم تلحقها الواو في حالة النص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189000"/>
            <a:ext cx="8748720" cy="1366920"/>
          </a:xfrm>
          <a:custGeom>
            <a:avLst/>
            <a:gdLst>
              <a:gd name="textAreaLeft" fmla="*/ 1997280 w 8748720"/>
              <a:gd name="textAreaRight" fmla="*/ 6751440 w 8748720"/>
              <a:gd name="textAreaTop" fmla="*/ 312120 h 1366920"/>
              <a:gd name="textAreaBottom" fmla="*/ 105480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س/ هل ننطق هذا الواو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إن هذه الواو التي تلحق كلمة (</a:t>
            </a:r>
            <a:r>
              <a:rPr b="0" lang="ar-SA" sz="3200" spc="-1" strike="noStrike">
                <a:solidFill>
                  <a:srgbClr val="333399"/>
                </a:solidFill>
                <a:latin typeface="Arial"/>
              </a:rPr>
              <a:t>عمرو )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في الرفع والجر لا ننطقها في القراءة فهي حرف زائد يكتب ولا ينط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3300"/>
                </a:solidFill>
                <a:uFillTx/>
                <a:latin typeface="Arial"/>
              </a:rPr>
              <a:t>ولعلك تتساءل ماالفائدة منه 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لو نظرنا للعبارة الأولى (استأذن </a:t>
            </a:r>
            <a:r>
              <a:rPr b="0" lang="ar-SA" sz="3200" spc="-1" strike="noStrike">
                <a:solidFill>
                  <a:srgbClr val="333399"/>
                </a:solidFill>
                <a:latin typeface="Arial"/>
              </a:rPr>
              <a:t>عمرو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ن العاص الخليفة عمر بن الخطاب 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االفرق بين كلمة (</a:t>
            </a:r>
            <a:r>
              <a:rPr b="0" lang="ar-SA" sz="3200" spc="-1" strike="noStrike">
                <a:solidFill>
                  <a:srgbClr val="333399"/>
                </a:solidFill>
                <a:latin typeface="Arial"/>
              </a:rPr>
              <a:t>عمٍرو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) وكلمة ( </a:t>
            </a:r>
            <a:r>
              <a:rPr b="0" lang="ar-SA" sz="3200" spc="-1" strike="noStrike">
                <a:solidFill>
                  <a:srgbClr val="ff3300"/>
                </a:solidFill>
                <a:latin typeface="Arial"/>
              </a:rPr>
              <a:t>عُمَرَ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)؟  الفرق هو حرف الواو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ا الفائدة من حرف الواو؟ هو التفريق بين كلمة ( </a:t>
            </a:r>
            <a:r>
              <a:rPr b="0" lang="ar-SA" sz="3200" spc="-1" strike="noStrike">
                <a:solidFill>
                  <a:srgbClr val="333399"/>
                </a:solidFill>
                <a:latin typeface="Arial"/>
              </a:rPr>
              <a:t>عَمُرو )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،(</a:t>
            </a:r>
            <a:r>
              <a:rPr b="0" lang="ar-SA" sz="3200" spc="-1" strike="noStrike">
                <a:solidFill>
                  <a:srgbClr val="ff3300"/>
                </a:solidFill>
                <a:latin typeface="Arial"/>
              </a:rPr>
              <a:t>عُمَََر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00000" y="765000"/>
            <a:ext cx="8244000" cy="151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لاحظ الزيادة في هذه الكلم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Arabic Transparent"/>
              </a:rPr>
              <a:t>/(توغلوا ، اقتحموا ، فتحوا ، استكملوا ، لم يظلموا 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  <a:cs typeface="Arabic Transparent"/>
              </a:rPr>
              <a:t>لم يفسدوا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س/ هل تستطيع أن تحدد الحرف الذي زيد في هذه الكلمات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ج/إنه الأل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Arabic Transparent"/>
              </a:rPr>
              <a:t>**أن هذه الألف لا تأتي إلا بعد واو؟ماذا تسمى هذه الواو 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0000"/>
                </a:solidFill>
                <a:uFillTx/>
                <a:latin typeface="Arial"/>
                <a:cs typeface="Arabic Transparent"/>
              </a:rPr>
              <a:t>تسمى واو الجماع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Arabic Transparent"/>
              </a:rPr>
              <a:t>*** إذن فاالأ لف التي تكتب ولا تنطق هي ألف واو الجماعة ، وسميت ألف واو الجماعة ؛ لأنها لا تأتي إلا بعدها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abic Transparent"/>
              </a:rPr>
              <a:t>س/حدد أنواع الكلمات السابقة؟نجد أنها أفعال ماضية ومضارعة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13000"/>
            <a:ext cx="4535640" cy="5050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Arial"/>
              </a:rPr>
              <a:t>لاحظ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768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" dur="768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" dur="768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" dur="768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س /هل تأتي واو الجماعة وألفها الزائدة في أفعال الأمر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Arial"/>
                <a:ea typeface="Andalus"/>
              </a:rPr>
              <a:t>     </a:t>
            </a:r>
            <a:r>
              <a:rPr b="1" lang="hi-IN" sz="7200" spc="-1" strike="noStrike" u="sng">
                <a:solidFill>
                  <a:srgbClr val="ff3300"/>
                </a:solidFill>
                <a:uFillTx/>
                <a:latin typeface="Arial"/>
                <a:cs typeface="Andalus"/>
              </a:rPr>
              <a:t>نعم</a:t>
            </a:r>
            <a:r>
              <a:rPr b="1" lang="en-US" sz="7200" spc="-1" strike="noStrike" u="sng">
                <a:solidFill>
                  <a:srgbClr val="000000"/>
                </a:solidFill>
                <a:uFillTx/>
                <a:latin typeface="Arial"/>
                <a:ea typeface="Andalus"/>
              </a:rPr>
              <a:t> .مثل : ( اتق</a:t>
            </a:r>
            <a:r>
              <a:rPr b="1" lang="hi-IN" sz="7200" spc="-1" strike="noStrike" u="sng">
                <a:solidFill>
                  <a:srgbClr val="ff3300"/>
                </a:solidFill>
                <a:uFillTx/>
                <a:latin typeface="Arial"/>
                <a:cs typeface="Andalus"/>
              </a:rPr>
              <a:t>وا</a:t>
            </a:r>
            <a:r>
              <a:rPr b="1" lang="en-US" sz="7200" spc="-1" strike="noStrike" u="sng">
                <a:solidFill>
                  <a:srgbClr val="000000"/>
                </a:solidFill>
                <a:uFillTx/>
                <a:latin typeface="Arial"/>
                <a:ea typeface="Andalus"/>
              </a:rPr>
              <a:t> الله)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hi-IN" sz="3200" spc="-1" strike="noStrike" u="sng">
                <a:solidFill>
                  <a:srgbClr val="000000"/>
                </a:solidFill>
                <a:uFillTx/>
                <a:latin typeface="Arial"/>
              </a:rPr>
              <a:t>يتبين أن واو الجماعة لا تأتي إلافي الأفعا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3300"/>
                </a:solidFill>
                <a:latin typeface="Arial"/>
                <a:cs typeface="PT Bold Dusky"/>
              </a:rPr>
              <a:t>الاستنتاج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r" rtl="1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SimSun"/>
                <a:ea typeface="DecoType Naskh"/>
              </a:rPr>
              <a:t>1</a:t>
            </a:r>
            <a:r>
              <a:rPr b="1" lang="ar-SA" sz="4000" spc="-1" strike="noStrike">
                <a:solidFill>
                  <a:srgbClr val="000000"/>
                </a:solidFill>
                <a:latin typeface="SimSun"/>
                <a:ea typeface="Arabic Transparent"/>
              </a:rPr>
              <a:t>/ تلحق كلمة ( عمٍرو) في حالتي الرفع والجر واو زائدة لا تظهر في النط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r" rtl="1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SimSun"/>
                <a:ea typeface="Arabic Transparent"/>
              </a:rPr>
              <a:t>2</a:t>
            </a:r>
            <a:r>
              <a:rPr b="1" lang="ar-SA" sz="4000" spc="-1" strike="noStrike">
                <a:solidFill>
                  <a:srgbClr val="000000"/>
                </a:solidFill>
                <a:latin typeface="SimSun"/>
                <a:ea typeface="Arabic Transparent"/>
              </a:rPr>
              <a:t>/تكتب بعد واو الجماعة ألف زائدة لا تنط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r" rtl="1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SimSun"/>
                <a:ea typeface="Arabic Transparent"/>
              </a:rPr>
              <a:t>3</a:t>
            </a:r>
            <a:r>
              <a:rPr b="1" lang="ar-SA" sz="4000" spc="-1" strike="noStrike">
                <a:solidFill>
                  <a:srgbClr val="000000"/>
                </a:solidFill>
                <a:latin typeface="SimSun"/>
                <a:ea typeface="Arabic Transparent"/>
              </a:rPr>
              <a:t>/ واو الجماعة لا تلحق إلا الأفعال بأنواعها الثلاثة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r" rtl="1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99cc00"/>
                </a:solidFill>
                <a:latin typeface="SimSun"/>
                <a:cs typeface="Arabic Transparent"/>
              </a:rPr>
              <a:t>الماضي ، المضارع ، الأمر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8T18:58:57Z</dcterms:created>
  <dc:creator>عبدالله سلطان الحريري</dc:creator>
  <dc:description/>
  <dc:language>en-US</dc:language>
  <cp:lastModifiedBy>جهاز المعلم</cp:lastModifiedBy>
  <dcterms:modified xsi:type="dcterms:W3CDTF">2003-12-09T04:45:14Z</dcterms:modified>
  <cp:revision>5</cp:revision>
  <dc:subject/>
  <dc:title>زيادة بعض الأ حرف في الكلمة </dc:title>
</cp:coreProperties>
</file>